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drumroll.wav" ContentType="audio/x-wav"/>
  <Override PartName="/ppt/media/applause.wav" ContentType="audio/x-wav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13A-8957-4604-A8D9-80FF6874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A09-8D89-4C75-9E59-CB6804C5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701-A5AF-427F-9D3C-D36D4CF9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B1A-04F2-425F-82A5-526F9F96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3BF2-BCFA-48D5-BB14-F24A8C86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CAC9-CA87-4816-8FF7-9CB69313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3EDF-3960-4D84-AD5A-5977248D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3E41-36CF-4E20-B8C3-DA8A6AC8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B006-F5D9-4BFE-A8BB-092631A7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4E54-1C5D-4F66-B96D-4072ADA3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6C83-198F-48F4-89B3-1B2B9803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031-ACAC-4C41-8A24-DB360B7D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EE74-7C12-455E-926A-498524C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7145-4E5A-4D03-BA48-5A8285F9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3C07-9026-4016-AEA7-92C9E3B9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8185-A237-4EF6-AC28-8F9F3855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A8BA-4083-4132-976D-C6A54EE4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536-030C-4D60-A8C0-747D121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49F-DF4B-413F-9EC9-D78F16E3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2EE-B909-429C-B2F4-B1609A71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F55-4BA4-4BC2-A9F3-7FC4735F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EDE-3BA7-4F88-A4FA-998BB6A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C21-87C5-4507-A21F-AAC5F53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316-BEF7-4A0C-A81D-46E35336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335F-94FB-4E39-AC36-9F8D7265F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8EE5-BFED-4B58-971D-469DE904B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seballinstinct.com/2011/07/18/touchem-all-top-mlb-sally-league-pitching-prospects/jesse-biddl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ballandbat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tchel Paig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SATCHEL PAIGE"/>
          <p:cNvPicPr/>
          <p:nvPr/>
        </p:nvPicPr>
        <p:blipFill>
          <a:blip r:embed="rId2"/>
          <a:stretch/>
        </p:blipFill>
        <p:spPr>
          <a:xfrm>
            <a:off x="5943600" y="380880"/>
            <a:ext cx="281772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684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 styl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352680" y="388620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ach Davis has a lo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id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tea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eat play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reness in the ability o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066680" y="4419720"/>
            <a:ext cx="6705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othy, Cody and Nick play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utfie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und the pitcher stands 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 of the field most distant from the bat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85800" y="4038480"/>
            <a:ext cx="8077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y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ck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of the other players while his team was in the l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unt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895480" y="4495680"/>
            <a:ext cx="3505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itchers 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eakn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hen it comes to bat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ast-developed ski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d-sla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133720" y="3581280"/>
            <a:ext cx="4724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d Sox’s starting pitcher had a uniqu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ind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made him hard to h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dding to the cat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 pitcher moves before throwing the ba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4343400"/>
            <a:ext cx="8839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stbal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 practically untoucha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rvy pitc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edy pit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286000" y="434340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allandbat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52280" y="1295280"/>
            <a:ext cx="358164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33520" y="2666880"/>
            <a:ext cx="39621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stba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57200" y="38862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1371600" y="5334120"/>
            <a:ext cx="30481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4800600" y="1371600"/>
            <a:ext cx="37339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876920" y="32767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5029200" y="5105520"/>
            <a:ext cx="373392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weak point; slight faul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MPj03096340000[1]"/>
          <p:cNvPicPr/>
          <p:nvPr/>
        </p:nvPicPr>
        <p:blipFill>
          <a:blip r:embed="rId1"/>
          <a:stretch/>
        </p:blipFill>
        <p:spPr>
          <a:xfrm>
            <a:off x="228600" y="76212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three players in the outfiel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MCj02956620000[1]"/>
          <p:cNvPicPr/>
          <p:nvPr/>
        </p:nvPicPr>
        <p:blipFill>
          <a:blip r:embed="rId1"/>
          <a:stretch/>
        </p:blipFill>
        <p:spPr>
          <a:xfrm>
            <a:off x="2895480" y="5025960"/>
            <a:ext cx="20242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657240" y="24379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pitch thrown at high speed with very little curv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343400" y="114300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stba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8" descr="http://baseballinstinct.com/wp-content/uploads/2011/07/Jesse-Bidd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23814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1280" y="1905120"/>
            <a:ext cx="472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aving no like or equ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8" descr="MPj04332110000[1]"/>
          <p:cNvPicPr/>
          <p:nvPr/>
        </p:nvPicPr>
        <p:blipFill>
          <a:blip r:embed="rId1"/>
          <a:stretch/>
        </p:blipFill>
        <p:spPr>
          <a:xfrm>
            <a:off x="4038480" y="3352680"/>
            <a:ext cx="41148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ughing at; making fun of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581280" y="762120"/>
            <a:ext cx="40388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6" descr="MCj03792570000[1]"/>
          <p:cNvPicPr/>
          <p:nvPr/>
        </p:nvPicPr>
        <p:blipFill>
          <a:blip r:embed="rId1"/>
          <a:stretch/>
        </p:blipFill>
        <p:spPr>
          <a:xfrm>
            <a:off x="3124080" y="4648320"/>
            <a:ext cx="289584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MCPE06927_0000[1]"/>
          <p:cNvPicPr/>
          <p:nvPr/>
        </p:nvPicPr>
        <p:blipFill>
          <a:blip r:embed="rId2"/>
          <a:stretch/>
        </p:blipFill>
        <p:spPr>
          <a:xfrm>
            <a:off x="6553080" y="4191120"/>
            <a:ext cx="17701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swinging movement of the arms while twisting the body just before pitching the bal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3" descr="http://theredzonereport.com/wp-content/uploads/2009/06/cole_hamels_phillies.jpg"/>
          <p:cNvPicPr/>
          <p:nvPr/>
        </p:nvPicPr>
        <p:blipFill>
          <a:blip r:embed="rId1"/>
          <a:stretch/>
        </p:blipFill>
        <p:spPr>
          <a:xfrm>
            <a:off x="152280" y="228600"/>
            <a:ext cx="2838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irm belief in yourself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MCj04258260000[1]"/>
          <p:cNvPicPr/>
          <p:nvPr/>
        </p:nvPicPr>
        <p:blipFill>
          <a:blip r:embed="rId1"/>
          <a:stretch/>
        </p:blipFill>
        <p:spPr>
          <a:xfrm>
            <a:off x="3429000" y="4572000"/>
            <a:ext cx="1835280" cy="1698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MCj03966600000[1]"/>
          <p:cNvPicPr/>
          <p:nvPr/>
        </p:nvPicPr>
        <p:blipFill>
          <a:blip r:embed="rId2"/>
          <a:stretch/>
        </p:blipFill>
        <p:spPr>
          <a:xfrm>
            <a:off x="6324480" y="4495680"/>
            <a:ext cx="11239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isa</cp:lastModifiedBy>
  <dcterms:modified xsi:type="dcterms:W3CDTF">2012-09-30T14:10:01Z</dcterms:modified>
  <cp:revision>23</cp:revision>
  <dc:subject/>
  <dc:title>Frindle Vocabulary Words</dc:title>
</cp:coreProperties>
</file>